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B3D-6A85-458A-B68E-76112C4F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E70-4C98-426E-A072-363D4C37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766-7804-415D-88CF-336D0787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A34-B620-40CE-8FBC-02851C3F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4D2-CF2E-4237-9F88-563F4C92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1B6-A4B1-4E6F-A8AD-AA61FB10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630-B7FD-4B8D-95A5-3298C9C7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C91-BC06-4B04-B6E6-C8A20526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DFE-4E0A-4B13-9D52-893E136B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0B7-F0F4-4487-B8CA-74661D06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E8B-A155-4B00-B038-2A423C2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6EE-09F0-4B5C-A4CA-33D34BA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929C-BFC2-49E6-9529-2CD2E49CB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eb.mit.edu/invent/iow/johnson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4572000"/>
            <a:ext cx="1676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838080"/>
            <a:ext cx="7162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8100000"/>
                </a:gradFill>
                <a:latin typeface="Impact"/>
              </a:rPr>
              <a:t>The Super Soak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42670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hanges happe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13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9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L. Johnson"/>
          <p:cNvPicPr/>
          <p:nvPr/>
        </p:nvPicPr>
        <p:blipFill>
          <a:blip r:embed="rId2"/>
          <a:srcRect l="0" t="0" r="75013" b="0"/>
          <a:stretch/>
        </p:blipFill>
        <p:spPr>
          <a:xfrm>
            <a:off x="533520" y="609480"/>
            <a:ext cx="1904760" cy="234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L. Johnson"/>
          <p:cNvPicPr/>
          <p:nvPr/>
        </p:nvPicPr>
        <p:blipFill>
          <a:blip r:embed="rId3"/>
          <a:srcRect l="26005" t="0" r="0" b="0"/>
          <a:stretch/>
        </p:blipFill>
        <p:spPr>
          <a:xfrm rot="20292600">
            <a:off x="2971440" y="1599840"/>
            <a:ext cx="5638680" cy="234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486400"/>
            <a:ext cx="8534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nnie johns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2,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john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The Super So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nie with his partner D’andrade created a  workable prototype of the new famous Super Soaker in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er Soaker was invented in 1988 under the original idea name “Power Drench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er Soaker uses an air pump to pressurize it’s water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90 over 40 billion have been generated over $200 million in sales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zens of websites are devoted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er Soaker has tremendous distance and accuracy in water markma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Lonnie G. Joh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our years  Lonnie has been inventing thermodynamics system for NASA and other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nie's Senior year in high school he won national inventing competion for lin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nie first earned a B.S. in mechanical engineering in 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nie earned a M.S. in nuclear engineering in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nie Joined the U.S Air force when he became an advance space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6Z</dcterms:created>
  <dc:creator>install</dc:creator>
  <dc:description/>
  <dc:language>en-US</dc:language>
  <cp:lastModifiedBy>install</cp:lastModifiedBy>
  <dcterms:modified xsi:type="dcterms:W3CDTF">2010-05-14T13:03:40Z</dcterms:modified>
  <cp:revision>8</cp:revision>
  <dc:subject/>
  <dc:title>Slide 1</dc:title>
</cp:coreProperties>
</file>